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D125-8A4B-4BE4-A722-69410D25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74FF-223E-47E1-91F3-AB7767B3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C0D03-5A60-401D-BEC2-16816BB7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28CF4-13D3-4FC9-9A79-61204FE2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71AE4-074A-452A-8753-6B1C8148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160A3F-88D7-43A0-8494-71CDEB85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B41FA-B2C8-404D-8B79-4EE63E80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778D7-F1BB-4070-AC71-4D7ACC68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4DCD2-DEC4-4CB9-90F7-4845C3A1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03CF8-D124-419E-84A1-E00547897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BA292-0C5C-49A7-897E-B08E7788B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E38C0-15E8-466E-A552-AB332D31D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F9F2-2DB4-4459-92B1-77B33487C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38B50A-778D-4EF5-8AC7-AEBBDDE5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3BC033-C683-441F-A729-F49C4915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7FED6-3AFE-402F-8079-087FA3CF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3994C-07EA-47FC-B101-7BEE93B5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0820AE-14B9-4A46-9553-152F2167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8B92A7-1079-4C78-8DB5-922EE99C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F35004-AF22-43DA-8C05-A1096073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70F7C6-E3DB-41D6-A5C9-FA09E04A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1D2286-69C6-4010-9581-8824E0F3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197E9D-7365-4E10-BD10-AA0A182DD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A057-4237-4201-BFC3-BEC98DDA8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F0710-3F8A-408A-9DD5-9EC90BECA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4FA2D-FFE3-49AF-BB96-11B88B215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6D349-BA53-4694-9C70-B0900B92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D41CA-0624-4A42-A2DF-CF68ABAD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34570-7352-41A8-B3CC-865961CC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68D4D-0FDA-4961-ABE9-CB784938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D80E9-4623-4647-A162-554B533D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C9BD8-2765-4A81-86B8-314350FE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07ACA-8FD5-49B6-99FA-CF80C5F1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2FE04-B8DC-45FE-BBB3-0FD1CB7C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29BE-4FB1-4F12-92BA-6EA06ABFA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6A5D7-2F5E-42E5-B306-D2BB399C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E7756-E3C5-4C2C-AEF1-418ACA97A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3E156-6995-4B67-92C1-B0282A19F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42FD45-26A0-47D5-AA26-D38E3BBB0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8C31F1-A4B7-443E-92BD-BFF67B60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C34ED2-12B6-457F-8745-9FA1C0D5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29BB31-924D-4021-8241-AED45893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0D1E99-6858-46EF-92D4-4177BA46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EDB76-6FCA-4617-9272-5F536363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75CCA8-2F97-40F9-BBB6-545B0676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F2E0-5882-4448-A1A9-1F86B26D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F86F3-1731-4EFE-B313-D98CD3F9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700509-81AD-4951-82AD-5FE0B7A9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CC0896-2A3F-459C-B28A-364F5325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30633-9F89-41AA-9757-0DFF6B6C4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B334D4-8619-466F-984D-3366259C0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A16CE9-B232-4DAF-BB9B-9AB09FFC7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E5AC7E-945C-4407-B37D-3CF01D21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068670-4771-42EF-BE3C-363F4E2B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6B2A24-C050-4E61-997F-3E54EA61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BDA19D-3A8B-4CD5-BCB3-5DDE72DF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C058-04FD-47D1-AF32-E2E3D259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C7EA68-55C8-4DF6-94DC-3E313C16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8C905E-16F3-4B02-B851-1770DDEB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793018-1EBB-4477-B4E6-C06D8143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973AC9-BEC1-4577-8917-C37F3379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3FE238-6505-4137-87A3-3B6334E6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1E2250-B8DC-499F-B2A5-0F3EE6EE7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B738EA-7A29-4048-B3D8-C04C9A473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EF2BBA-F1E6-4828-8898-2A92F0FF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08D50C-A2E8-4CB9-992F-EE900DA4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C3305B-7FC5-43E1-865A-A1387552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B384-6487-4568-AD11-DFB951A3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5BEE9E-1BD4-4561-8203-ED9A5623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EED962-D514-4816-9795-0A963F6A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985C0E-22E9-401E-B390-3D187A7C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D98FB7-503A-4560-B7A2-A4EA85A7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A2BACD-C300-4218-AD81-BADD68D3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01947D-A37F-4B33-A467-151081E0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A45615-AD84-465A-99EF-DC9E1441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338E85-9DFD-49B5-B973-C16D513B0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48264A-DF9D-48AA-A8F3-4380EA136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D2C32B-2854-4C97-B923-5BC1E0420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F4D9-758E-44E4-8160-07C54AFB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22CD29-7F58-4B31-B7B2-E9DC687B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9EE219-A735-4F62-B69E-3A13E314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A561CB-E3A9-420F-BC71-0BBE7AE4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C6059F-8013-4AEB-9204-D3939549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603F7C-1F5D-405D-8ED1-11ED26D4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E80CE8-2330-4015-ACD7-8412F892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7332AA-3654-4CA0-A5F8-6F48A76A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C225B2-2D73-46D5-9451-98491491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56400F-86E4-431D-9DCB-340DA09A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C4CE50-AA5B-4154-81A4-5B8150126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33BB-7ADB-40C7-9C8F-2D508498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D08CAA-4F7D-48F3-9B59-BCC96365C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A71671-EA7F-4276-B410-CCD23678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E5FCD0-A08C-454A-BB92-DA0B9AD5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FD99FC-FC35-48CD-96FD-B81A2AEA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393162-2D14-4B3B-A470-65F8B913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EA44A6-7969-4147-A5F0-28AB0684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0B9D79-F47E-4A9F-A38A-D11C9C7F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B000C0-7C63-4224-9E29-383F4583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439EF7-1736-453D-9C21-79D23108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F28003-DBCF-43CA-A173-EA34CF54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1E62-7B9D-450B-AB5D-2F6DE0AD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93E781-4746-43D6-A616-30DEB580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56DD79-6F51-47B2-BBD8-5256BA17B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BC7B28-0687-452E-AA91-C13C724E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F0A669-E54F-4C14-8B0B-1E75FE067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61682E-87DD-46F0-B0EA-D64878A1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604AF6-1429-40C5-8038-B2D8CBFC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1931B3-23EB-48DC-9562-F88B051F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25D039-1E13-4520-AAEE-2009D9AB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C22CE8-85F6-4987-A846-07A65679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C9EE32-F5A8-4560-81C4-B75E854F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CA57-BAF5-4F37-986F-4F66A5F1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F16C-15F2-4DB0-924C-40857073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09D51D-2230-4ABB-A678-A63F0F84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961387-D48F-49B9-BD84-3718F918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57DD67-3FF1-4989-A44A-69A3232E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DBE143-F63F-4A5F-BBB1-B67059028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F831F8-D740-4C17-AEF7-BEEB8B3CF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9FC387-B09F-40EF-9AC3-75DD23100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F00A79-920C-4D62-9C27-8B19BA48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7A0673-B990-4206-A715-A7F60FA6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AC0B2B-83FE-449B-8AAF-A4E3F11A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8B0660-A9FF-48D2-A812-A1E96B0E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6BA0-539A-462A-977F-CB12470A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E45BE6-E850-48ED-B97A-0A59BB5A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292159-4590-4AEB-BCF2-4CD98CEA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D1ECD5-326F-45F4-93DB-EDF48119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1F1B3C-A8BF-4EE0-B48E-D2620CBC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D2F34C-DBAE-469B-9EDE-0D32BC43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CAC5E6-761A-4115-A323-3D784C71F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1583FA-E34D-4988-B355-B8EF0BD6F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928D9D-ADE1-4A59-895D-26B07C7D8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BCF598-C2C4-44CA-A112-ED6CFB99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BF987E-4304-4C88-BA4A-C7915C2D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9432-623C-4F09-B2EB-F7CE886E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94F1D4-AC12-441A-887D-EE8107F9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4D7265-23D3-46A8-B72E-8DB24721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903D84-AEE7-4F2A-8C53-C278746D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7FFB72-F990-4DCD-A412-1EB36820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68C4E5-5276-4826-92D6-A39F6866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9609A5-4D67-4161-9ADD-1B7A8E23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44E60A-03F4-4D21-92CF-2F086EEF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8711A3-53E7-465F-A44B-2D10324F0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338376-22E7-4B0C-A53B-4C15E8F58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477FED-4306-4D57-B99F-7FC09A85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C342-2BA0-44C7-8ECF-E3C0247C4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66DE20-A22B-47F4-B182-0683EF2F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5B1320-1BA8-45CE-B863-9F9868A7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9DB40E-E92A-4CA9-B66C-86A510B8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08BD69-06A0-4BC0-A6D3-5308CC89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D01B33-B326-47F5-AF36-E096F1F2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55A619-712F-4526-B73A-445E74EA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63D4B1-93EC-4568-8150-6CC86E02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39117C-5783-423E-B800-360B9D9D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8D77A4-D32E-41C4-B82B-E3A425A8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C24778-40AC-4FB7-A30A-3833838AD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6A7B-C6D6-4A8C-8509-E096FDD27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ED7F0C-EFCE-4E32-8A17-9239D09A9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EE6042-4AF8-4D2F-BDAE-2CDBA8BB8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659F83-7D39-4544-9D7C-DBE744B8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E35C11-6933-43BB-B20A-A4D1A5C3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AE3014-3D93-4511-AC77-F6D6D673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A4276A-A3CD-4235-8B81-A5316A67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73F2DF-731E-4D32-8776-154CAA9F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D81632-BF28-4E97-A576-71F5843B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C02B62-C296-4E25-84FA-A3C08B59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242C07-0C8A-492C-8F1E-1507BCE4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CB3E8-B2D5-4AD5-8B2E-2A93CA03E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D9CCD9-38FF-4E83-B963-52A09945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77911E-8A5F-4A86-883E-781908F01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569D63-3286-4730-84D6-BE9A02E4D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15448-7302-46DC-BF14-538DAC30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38FB7-42A8-4135-AD76-D212BBFA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03882-640A-4010-8E67-CC3925B4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EEF79-B4B1-4DAE-B5E1-954DBE28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5827-A189-4FAC-96C5-570A7A7D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7D565-CC36-4238-81F3-76D51936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BCC08-BD48-4BDD-B138-1FFEB1FD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909E9-1CD3-4790-822A-BB4F0878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18EA7-6005-427C-A27C-CA76791E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28EB0-2CF3-4C31-AC09-47D62F7B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676DB-3920-426A-9D50-FE6FA92CB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8FF6C-38C9-4711-BE65-A3147826D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2368B-F2B4-4938-AC7D-558673CE8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2A4E5-908D-4C42-9C7A-A003EE55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82267-A8F0-4D30-B83D-6059F8D5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5657-8CB0-4911-8EDE-7277C33D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65F9F-E393-469E-9B29-C1F3C5C2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AD399-44B7-4D1F-B567-658D44EF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40F3D-09C8-480D-9FDF-74AFA02D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CBD51-BBB1-4DA3-8C09-E2A27279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F9BFF-9C39-47A1-AE9C-C2A6503F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07081-4CAE-4AC3-B7AE-1BF8D2C8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806E1-93CC-473F-B8C1-423C3C6E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0AB79-9F4A-4030-81E2-EBD8A24AB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354E5-A317-435E-838D-B8FC6EBE0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BDE34-AE2A-4A01-BA20-DB6AC3EB6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7E1B-7D49-4262-A8E3-DCB317AF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6D045-7741-4414-801F-C949E7AA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DC505-80B9-4939-9F5C-9346448B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B1FB9-66D3-4228-8300-A22F083F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9FA3E-A232-4D0F-8BBD-C3CAF4CA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BB94F-937D-4C94-98B6-07532C08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88C04-EB59-44A1-8A6E-D4EDD320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CF932-1B97-4181-B984-BD0D4EFF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E929F-8CBD-4C62-BCDC-06298B92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09D21-B81D-4E92-8378-94827CD2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B2DB1-D937-4CD1-80CF-8C706AEC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656B-95FE-4216-8515-05A4F876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8182A-4CF2-4F61-9C4B-218B55AC1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B0F26-572B-4EFD-9038-048C48B35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54FAF-1233-4DB7-864A-0244611C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A4544-F849-496D-972A-F36D28E3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35383-2BE5-4111-ACAB-CD1F62BB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2A16B-4A82-4938-A798-A1D54DB0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D1D42-EBFF-4C0F-9486-997ACB14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51584-E1EB-4225-8FD7-FAE2FC1A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A80DA-8F37-46A7-B96E-5B52378B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F382B-F27B-4C40-AB71-E18756F1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CD33-5898-4565-AF83-3E575CEE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82C2C-BC9B-487C-8002-32FD80D1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5E9CA-B8EF-4214-AD83-09C8A3318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1C5AD-6C15-4902-9012-C50ED1ED6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BDBC2-3892-4798-BBD2-2787D17E0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D909F-5BC4-4458-A5D2-0504451C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BEBBC-28B5-47FA-89E9-98F333DE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3DE78-0686-488F-8206-4136BB77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43653-30E2-42BE-B931-77D1CDB7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E6B2C-EE78-426E-8A11-20E62CEA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F0E83-32E7-43C5-AED1-9D856D83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1405-294C-4F9B-B2D3-407817C9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8AAD2-A394-4CB9-893B-CC860D73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46772-DE80-4638-A530-745D177C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5E451-D6DE-40E3-AB21-E8C0E137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3809F-2E9B-4E22-873C-2B167B971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EF6D2-72C5-46EC-852F-F5D324367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7123A-1991-4A51-8C45-77370E12A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36AD7-015B-410C-9A50-82E2A64A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E8400-4215-4AAB-8850-C67F46AC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F64B5-FF19-4001-9F2B-07810A17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11305-D77B-448C-A71E-17CEC06B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2067-D279-4FD8-A80C-D20C1B47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A8CB4-8C31-47AC-83E6-07E2B4C7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EFB71-D5EC-4571-8AC3-5B110D53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5F884-64F9-436A-A02B-2F94C945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EEC47-5680-4221-BFEA-D2C9A2D5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40302-F812-4C4E-BCF4-BA5806E4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8B466-3531-42F8-BE3F-0D14D82D8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83383-1650-4150-B509-30DB0D9F7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88EAB-67D0-44A0-A425-364734227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4A832B-C5ED-4D9B-8190-4A310898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0D8DD7-84EA-4A07-BADF-E589227E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6451-CA70-4408-A0D5-91B59315E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5D38-2367-42B9-8246-54671518BF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8F14-293B-46B0-9D33-27C2569ABD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447C-2C8F-41D1-8EE1-F31414116D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99B7-DCAD-4315-B8F9-FCA1A05BDD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08D0-7A34-400C-86D7-D994484C4A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3C22-8CD2-4974-9A9E-A6129E7EF2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DD4B-497D-476C-BEB2-8C9E02C06E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E6FF-50E4-414A-9B09-1F2EB38E47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9161-0706-4805-ADCD-C49F40B05A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25EE-4EE2-4164-A595-29AF551581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0451-8E08-40D0-B81C-04A75B55DD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5A73-438C-42E1-925F-F4008BA520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CDC9-B8B2-4643-BEFE-73F4492528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0922-A26F-48B0-BC7C-47053D50B1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7046-2995-4D6D-94F6-B939D3CED7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7578-6B45-4B75-96DD-68908AACB9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2B45-BC3B-46B3-B738-A878E0504F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E88B-86B7-4D57-8AE4-E880D6E0B5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687C-B3E4-4C5C-BC69-55202AFFCE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711E-4A3A-4D16-BCB8-7225F5F6BE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9D25-B0C9-4381-B325-B3575D33AB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BD4E-36FC-4511-B50F-180810BA74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4F5B-2BFA-4804-9B7E-4A8950C588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5B41-642A-45AA-8DD8-FB7FDBC78E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502C-A85A-4947-A41A-185EEB5335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A4D4-B285-4781-8F34-215B32E24F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B548-A0FD-41F4-9460-99BFB89AA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DF64-F6DC-4E69-99AD-0346A7C4F9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89E9-2375-49FB-A13A-7417CA5A75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5DB0-C856-4ABA-91C6-3683F6833F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63C0-7C8C-4DC2-99D9-D37D3D9DE2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A103-91B7-4E13-AC61-ABEC72519C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9CB3-0E09-4AE4-9949-9E03927A65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7BC4-89B9-43EC-867E-BD52B630D7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2ED6-3013-48F1-8739-E213244345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316D-0A43-4BDD-AA3D-535883AABA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06B5-7CA8-44DA-BF6A-F7C1FCDFF8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5D29-F2C9-4B25-9852-EDA1A75E4B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B875-9547-4155-8C48-246861925A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0" descr=""/>
          <p:cNvPicPr/>
          <p:nvPr/>
        </p:nvPicPr>
        <p:blipFill>
          <a:blip r:embed="rId1"/>
          <a:stretch/>
        </p:blipFill>
        <p:spPr>
          <a:xfrm>
            <a:off x="1009800" y="3138480"/>
            <a:ext cx="712440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8134200" cy="5962680"/>
          </a:xfrm>
          <a:prstGeom prst="rect">
            <a:avLst/>
          </a:prstGeom>
          <a:ln w="0">
            <a:noFill/>
          </a:ln>
        </p:spPr>
      </p:pic>
      <p:sp>
        <p:nvSpPr>
          <p:cNvPr id="1024" name="矩形 2"/>
          <p:cNvSpPr/>
          <p:nvPr/>
        </p:nvSpPr>
        <p:spPr>
          <a:xfrm>
            <a:off x="928800" y="2571840"/>
            <a:ext cx="428400" cy="500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3"/>
          <p:cNvSpPr/>
          <p:nvPr/>
        </p:nvSpPr>
        <p:spPr>
          <a:xfrm>
            <a:off x="1000080" y="4572000"/>
            <a:ext cx="428760" cy="500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2" descr=""/>
          <p:cNvPicPr/>
          <p:nvPr/>
        </p:nvPicPr>
        <p:blipFill>
          <a:blip r:embed="rId1"/>
          <a:stretch/>
        </p:blipFill>
        <p:spPr>
          <a:xfrm>
            <a:off x="500040" y="928800"/>
            <a:ext cx="8143920" cy="5743440"/>
          </a:xfrm>
          <a:prstGeom prst="rect">
            <a:avLst/>
          </a:prstGeom>
          <a:ln w="0">
            <a:noFill/>
          </a:ln>
        </p:spPr>
      </p:pic>
      <p:sp>
        <p:nvSpPr>
          <p:cNvPr id="1027" name="矩形 2"/>
          <p:cNvSpPr/>
          <p:nvPr/>
        </p:nvSpPr>
        <p:spPr>
          <a:xfrm>
            <a:off x="1000080" y="928800"/>
            <a:ext cx="428760" cy="500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3"/>
          <p:cNvSpPr/>
          <p:nvPr/>
        </p:nvSpPr>
        <p:spPr>
          <a:xfrm>
            <a:off x="928800" y="3500280"/>
            <a:ext cx="428400" cy="500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4"/>
          <p:cNvSpPr/>
          <p:nvPr/>
        </p:nvSpPr>
        <p:spPr>
          <a:xfrm>
            <a:off x="857160" y="5072040"/>
            <a:ext cx="428760" cy="500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2" descr=""/>
          <p:cNvPicPr/>
          <p:nvPr/>
        </p:nvPicPr>
        <p:blipFill>
          <a:blip r:embed="rId1"/>
          <a:stretch/>
        </p:blipFill>
        <p:spPr>
          <a:xfrm>
            <a:off x="509760" y="1295280"/>
            <a:ext cx="8124480" cy="42674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2"/>
          <a:stretch/>
        </p:blipFill>
        <p:spPr>
          <a:xfrm>
            <a:off x="500040" y="5572080"/>
            <a:ext cx="7962840" cy="638280"/>
          </a:xfrm>
          <a:prstGeom prst="rect">
            <a:avLst/>
          </a:prstGeom>
          <a:ln w="0">
            <a:noFill/>
          </a:ln>
        </p:spPr>
      </p:pic>
      <p:sp>
        <p:nvSpPr>
          <p:cNvPr id="1032" name="矩形 3"/>
          <p:cNvSpPr/>
          <p:nvPr/>
        </p:nvSpPr>
        <p:spPr>
          <a:xfrm>
            <a:off x="4500720" y="1811160"/>
            <a:ext cx="15714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4"/>
          <p:cNvSpPr/>
          <p:nvPr/>
        </p:nvSpPr>
        <p:spPr>
          <a:xfrm>
            <a:off x="6715080" y="2857680"/>
            <a:ext cx="1571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5"/>
          <p:cNvSpPr/>
          <p:nvPr/>
        </p:nvSpPr>
        <p:spPr>
          <a:xfrm>
            <a:off x="6000840" y="3929040"/>
            <a:ext cx="10713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6"/>
          <p:cNvSpPr/>
          <p:nvPr/>
        </p:nvSpPr>
        <p:spPr>
          <a:xfrm>
            <a:off x="5429160" y="4929120"/>
            <a:ext cx="10000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7"/>
          <p:cNvSpPr/>
          <p:nvPr/>
        </p:nvSpPr>
        <p:spPr>
          <a:xfrm>
            <a:off x="4000680" y="5715000"/>
            <a:ext cx="9284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3" descr=""/>
          <p:cNvPicPr/>
          <p:nvPr/>
        </p:nvPicPr>
        <p:blipFill>
          <a:blip r:embed="rId1"/>
          <a:stretch/>
        </p:blipFill>
        <p:spPr>
          <a:xfrm>
            <a:off x="447840" y="1333440"/>
            <a:ext cx="8248320" cy="4191120"/>
          </a:xfrm>
          <a:prstGeom prst="rect">
            <a:avLst/>
          </a:prstGeom>
          <a:ln w="0">
            <a:noFill/>
          </a:ln>
        </p:spPr>
      </p:pic>
      <p:sp>
        <p:nvSpPr>
          <p:cNvPr id="1038" name="矩形 2"/>
          <p:cNvSpPr/>
          <p:nvPr/>
        </p:nvSpPr>
        <p:spPr>
          <a:xfrm>
            <a:off x="3786120" y="3500280"/>
            <a:ext cx="1000080" cy="339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3"/>
          <p:cNvSpPr/>
          <p:nvPr/>
        </p:nvSpPr>
        <p:spPr>
          <a:xfrm>
            <a:off x="5126040" y="3483000"/>
            <a:ext cx="10717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4"/>
          <p:cNvSpPr/>
          <p:nvPr/>
        </p:nvSpPr>
        <p:spPr>
          <a:xfrm>
            <a:off x="5500800" y="5072040"/>
            <a:ext cx="1000080" cy="311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5"/>
          <p:cNvSpPr/>
          <p:nvPr/>
        </p:nvSpPr>
        <p:spPr>
          <a:xfrm>
            <a:off x="7000920" y="5000760"/>
            <a:ext cx="1000080" cy="3823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2" descr=""/>
          <p:cNvPicPr/>
          <p:nvPr/>
        </p:nvPicPr>
        <p:blipFill>
          <a:blip r:embed="rId1"/>
          <a:stretch/>
        </p:blipFill>
        <p:spPr>
          <a:xfrm>
            <a:off x="428760" y="1143000"/>
            <a:ext cx="8305560" cy="4572000"/>
          </a:xfrm>
          <a:prstGeom prst="rect">
            <a:avLst/>
          </a:prstGeom>
          <a:ln w="0">
            <a:noFill/>
          </a:ln>
        </p:spPr>
      </p:pic>
      <p:sp>
        <p:nvSpPr>
          <p:cNvPr id="1043" name="矩形 2"/>
          <p:cNvSpPr/>
          <p:nvPr/>
        </p:nvSpPr>
        <p:spPr>
          <a:xfrm>
            <a:off x="1000080" y="1643040"/>
            <a:ext cx="10717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3"/>
          <p:cNvSpPr/>
          <p:nvPr/>
        </p:nvSpPr>
        <p:spPr>
          <a:xfrm>
            <a:off x="2571840" y="1643040"/>
            <a:ext cx="10000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4"/>
          <p:cNvSpPr/>
          <p:nvPr/>
        </p:nvSpPr>
        <p:spPr>
          <a:xfrm>
            <a:off x="4286160" y="1643040"/>
            <a:ext cx="10717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5"/>
          <p:cNvSpPr/>
          <p:nvPr/>
        </p:nvSpPr>
        <p:spPr>
          <a:xfrm>
            <a:off x="4749840" y="3228840"/>
            <a:ext cx="107136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6"/>
          <p:cNvSpPr/>
          <p:nvPr/>
        </p:nvSpPr>
        <p:spPr>
          <a:xfrm>
            <a:off x="6715080" y="3214800"/>
            <a:ext cx="10000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7"/>
          <p:cNvSpPr/>
          <p:nvPr/>
        </p:nvSpPr>
        <p:spPr>
          <a:xfrm>
            <a:off x="1214280" y="3714840"/>
            <a:ext cx="10004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8"/>
          <p:cNvSpPr/>
          <p:nvPr/>
        </p:nvSpPr>
        <p:spPr>
          <a:xfrm>
            <a:off x="2428920" y="4786200"/>
            <a:ext cx="11430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9"/>
          <p:cNvSpPr/>
          <p:nvPr/>
        </p:nvSpPr>
        <p:spPr>
          <a:xfrm>
            <a:off x="4214880" y="4786200"/>
            <a:ext cx="57132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10"/>
          <p:cNvSpPr/>
          <p:nvPr/>
        </p:nvSpPr>
        <p:spPr>
          <a:xfrm>
            <a:off x="5429160" y="4786200"/>
            <a:ext cx="64296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11"/>
          <p:cNvSpPr/>
          <p:nvPr/>
        </p:nvSpPr>
        <p:spPr>
          <a:xfrm>
            <a:off x="6558120" y="4794120"/>
            <a:ext cx="15714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Picture 3" descr=""/>
          <p:cNvPicPr/>
          <p:nvPr/>
        </p:nvPicPr>
        <p:blipFill>
          <a:blip r:embed="rId1"/>
          <a:stretch/>
        </p:blipFill>
        <p:spPr>
          <a:xfrm>
            <a:off x="461880" y="700200"/>
            <a:ext cx="8220240" cy="5457600"/>
          </a:xfrm>
          <a:prstGeom prst="rect">
            <a:avLst/>
          </a:prstGeom>
          <a:ln w="0">
            <a:noFill/>
          </a:ln>
        </p:spPr>
      </p:pic>
      <p:sp>
        <p:nvSpPr>
          <p:cNvPr id="1054" name="矩形 2"/>
          <p:cNvSpPr/>
          <p:nvPr/>
        </p:nvSpPr>
        <p:spPr>
          <a:xfrm>
            <a:off x="6786720" y="3618000"/>
            <a:ext cx="1571400" cy="347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3"/>
          <p:cNvSpPr/>
          <p:nvPr/>
        </p:nvSpPr>
        <p:spPr>
          <a:xfrm>
            <a:off x="5846760" y="4640400"/>
            <a:ext cx="12142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Picture 2" descr=""/>
          <p:cNvPicPr/>
          <p:nvPr/>
        </p:nvPicPr>
        <p:blipFill>
          <a:blip r:embed="rId1"/>
          <a:stretch/>
        </p:blipFill>
        <p:spPr>
          <a:xfrm>
            <a:off x="457200" y="1647720"/>
            <a:ext cx="8229600" cy="3562560"/>
          </a:xfrm>
          <a:prstGeom prst="rect">
            <a:avLst/>
          </a:prstGeom>
          <a:ln w="0">
            <a:noFill/>
          </a:ln>
        </p:spPr>
      </p:pic>
      <p:sp>
        <p:nvSpPr>
          <p:cNvPr id="1057" name="矩形 3"/>
          <p:cNvSpPr/>
          <p:nvPr/>
        </p:nvSpPr>
        <p:spPr>
          <a:xfrm>
            <a:off x="3000240" y="1643040"/>
            <a:ext cx="1428840" cy="3794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4"/>
          <p:cNvSpPr/>
          <p:nvPr/>
        </p:nvSpPr>
        <p:spPr>
          <a:xfrm>
            <a:off x="1143000" y="3714840"/>
            <a:ext cx="1071720" cy="3999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Picture 2" descr=""/>
          <p:cNvPicPr/>
          <p:nvPr/>
        </p:nvPicPr>
        <p:blipFill>
          <a:blip r:embed="rId1"/>
          <a:stretch/>
        </p:blipFill>
        <p:spPr>
          <a:xfrm>
            <a:off x="428760" y="1504800"/>
            <a:ext cx="8286480" cy="3848400"/>
          </a:xfrm>
          <a:prstGeom prst="rect">
            <a:avLst/>
          </a:prstGeom>
          <a:ln w="0">
            <a:noFill/>
          </a:ln>
        </p:spPr>
      </p:pic>
      <p:sp>
        <p:nvSpPr>
          <p:cNvPr id="1060" name="矩形 2"/>
          <p:cNvSpPr/>
          <p:nvPr/>
        </p:nvSpPr>
        <p:spPr>
          <a:xfrm>
            <a:off x="1071720" y="1500120"/>
            <a:ext cx="10713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3"/>
          <p:cNvSpPr/>
          <p:nvPr/>
        </p:nvSpPr>
        <p:spPr>
          <a:xfrm>
            <a:off x="2286000" y="3571920"/>
            <a:ext cx="11430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4"/>
          <p:cNvSpPr/>
          <p:nvPr/>
        </p:nvSpPr>
        <p:spPr>
          <a:xfrm>
            <a:off x="3071880" y="4143240"/>
            <a:ext cx="1643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8:21:09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